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CFD7-9A31-46BD-8008-1DCA4A19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2E54-ED78-4768-8E3E-A30EB9EA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C9EA-A2A0-4F81-A2EC-E2147F3C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15D8-60F2-482A-AE80-979B5E7E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6915-384B-499E-9CC2-4956172C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914D-3B03-4DC9-96B6-4B080C0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CF7F-3D75-4395-9C39-3F4A490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CE7B-5011-4DDC-A271-1F242FF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E8AB-F9AD-43A2-B2AF-D4DB6B5E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1850-37A9-4978-AAD9-8A475331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41C8-3BBB-4B1F-9DE5-E079D164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0B1F-C584-4710-A35B-23C84241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144A-C0F2-463C-92E5-35B5DAD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350C-B14D-49B3-A7B2-E648731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2E45-1ADB-4F7D-83E8-4CA815C5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7291-A7A3-4624-9602-0ABE0D9C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12A3-CB05-41B2-B0B5-40403102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2F0C-0037-431E-8D1D-97BD5BF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5832-3450-4CBB-9EA8-BA17F6C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DED6-ECC1-4F60-B63A-02613EC0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EED6-F5A0-4205-87B1-4C00A474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5FA0-1936-4579-99D8-A309B45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1820-7952-4499-9A1A-7B972398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782F-8C43-4534-9A2E-E16439C4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CF6B-615B-4E24-ABAC-CD87B742B0B0}" type="slidenum"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2840" cy="1638360"/>
            <a:chOff x="0" y="0"/>
            <a:chExt cx="9132840" cy="16383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9132840" cy="1542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638360"/>
              <a:ext cx="91328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32840" cy="342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342900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60" y="3543480"/>
            <a:ext cx="91332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59BE-EFC3-4C30-9236-34E797C30E81}" type="slidenum"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32Z</dcterms:modified>
  <cp:revision>5</cp:revision>
  <dc:subject/>
  <dc:title>幻灯片 1</dc:title>
</cp:coreProperties>
</file>